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5.jpeg" ContentType="image/jpeg"/>
  <Override PartName="/ppt/media/image4.jpeg" ContentType="image/jpeg"/>
  <Override PartName="/ppt/media/image34.jpeg" ContentType="image/jpeg"/>
  <Override PartName="/ppt/media/image35.jpeg" ContentType="image/jpeg"/>
  <Override PartName="/ppt/media/image8.jpeg" ContentType="image/jpeg"/>
  <Override PartName="/ppt/media/image10.jpeg" ContentType="image/jpeg"/>
  <Override PartName="/ppt/media/image39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AEB601-290C-4627-9667-E529E210A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9F6203-2E43-4269-B755-9112B2BA442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C33DF1-94FB-42EF-8A7F-D369C0A4712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171E29-1BF5-4218-9643-AEFC0F5EA54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3ABEEA-796A-42E7-9D4E-C0587292C38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59C885-4735-4C77-AFE5-D025E6CC743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D1FF3D-295A-4872-9FD1-D9FDB840C1E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FC7603-0E53-4F7E-8CBF-85A5F592B2B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A8408D-2F8D-40F7-8151-F69EF7A3F28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F44240-2E4D-4D10-BCAF-B66FEB3064C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C865FF-FB20-4584-86C1-D0B46514203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FA104E-E2B4-4102-B6FB-5DFE578FAD7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9D701D-5EE6-492E-833A-065EB13AA82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A43DB0-832D-4703-B0C3-018446480FC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22FA3C-D628-430D-A7E4-8F0B07E74EC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C73C98-0CDF-46EC-9047-8544411E70A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9049C5-9B28-418B-A975-B71D95147F7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EF3753-6B4D-452E-8D1D-93B754F82EF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0E5AF8-F131-408C-9896-C4268A6AB84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68647A-2835-4D9A-9807-A7E5FDAC6B7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51A57B-51B1-493B-9FF3-18EBCC9A35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A7600D-E726-4B99-8542-3E655A15A9B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586D6B-95F6-4FFD-B440-B94D1DA12B0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01AB03-9F1A-4FB3-A84E-2D4AF056DD5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2D3F09-439D-46E5-A2DB-6517245D665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9E4CF0-BEA9-404A-A07C-9B7EC2FA819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AE6856-A575-4D9A-AC46-37D1C4946E5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5405BC-765A-4467-9C7B-F975385D017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51F795-9F5E-4A2E-8192-3911F0465EA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FF24D6-7875-4C11-86DE-B8F641183A6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63993D-66A2-478F-8084-2BA1C665C3A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F0E087-06C2-440A-BADE-FBD85C58937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8E03BD-B1D7-49AE-8D29-6201F10B931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1ACCDD-1DF8-456D-B7AB-D5D8CD02065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C280B3-BF0D-4559-9A3E-9AC19BC72D7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AC49A7-FC83-4044-B3A4-839D33E85B9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DAADED-50FB-483F-A721-ADB6396FD7B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B7DDAF-9A4F-4D42-BD1E-AAE0DA017B2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0427D1-9636-4DC3-906E-B5C0A5E2145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41D854-3083-4AE2-A936-F0796824D95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D901E5-C1B7-4B13-B6F0-218B4E73387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E10DC0-08D4-408E-8ACB-F56A9005169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F975AD-CDA6-4A4B-9E7B-520E187FAF9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99DC82-1395-43D5-A1AB-E393D9115BF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8D6A22-A21E-4F25-8787-A09EB156431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749311-5A8E-4898-A8B7-F04DBFE8BA3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C28234-1706-4C31-90F8-860E27C8768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4C61B3-9E81-4394-8178-B54566824A4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AE77BC-532D-4990-AABA-B6F509581ED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D728AA-03C9-4E54-BFA2-820E8DDD026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D6B108-EA08-475C-BEC8-24FBF1EB077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8E4B57-9FEA-4C2C-BD18-FFC49F4A985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49CC00-E935-4124-8C67-DEE844815F7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7C5EC7-90A3-4E4A-8EE3-49156A4EB41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872308-E52A-4B50-8BF5-1FF228BC00D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EED812-CA6C-49A8-9522-236C0DA753C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58E48D-9DBF-4957-BE4A-06B9E4F6EAA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9A57-B40D-43E0-BCEE-424C28293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2C8C-C465-4708-84C9-649C85E16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A0C6-83BE-4D11-AF55-C57AE1B58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0E64-4DE2-4A07-A451-44CBE8C61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2654D-30B4-4432-88C4-8CC4152214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D4B0E-E704-414C-BB17-1DCD4BFC18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B7D39-3C48-4BFE-9968-C4D0C240AC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607AC-CEB7-48E3-9F4E-7EDC4A7110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63F8C-D33D-482E-A27D-2AA48236D2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95613-B915-4299-8D66-C942686948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A16FB-5E64-451D-81CB-4768EF6CCE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4857-7107-485F-BEDD-8ACE265F8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F580A-106A-4D58-ADA1-448DA31686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9F0C3-1CF2-4A7C-B8CC-F27187B009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B4035-1CDA-491F-84B2-94D8B109F3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F5A83-BE1F-4B6B-B8A2-1C4F3235B8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38267-19D6-4E39-B6B7-8F85921AF8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70289-46DF-4125-BFDE-D086CB35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F75D5-A487-47DE-BA6C-BD2B8384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DE1FA-1D85-4A28-8CDE-8EB2FA62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346F1-D592-42D4-862B-4083975F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66BC4D-0B34-4DA2-B2FC-45DACB89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67D4-C66F-43B7-BFA1-AEA44FB551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B3683-22C8-4D52-8EBE-DE321C24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857B0E-7C41-4213-8DC5-42EB1409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0603C0-23B7-4BE3-A0F4-66DD460C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F55EF-6521-42F4-9AD9-7DB240AB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49F2E-5024-47C3-BBF0-10CCA83D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25966-574E-4118-8170-70CF3212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91FB0C-FE4F-4CD8-ACD6-1EF9E038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874C3-E9A8-427A-94B0-593F4D5E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6FD2C5-2360-4A1F-BBCA-F0A39BBD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98209-5150-4351-A116-96E22F97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53C6-2A75-4897-8CD7-57FF3965F8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9B148-EF34-4066-BD4F-8A9BBAC7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0F8BC8-A862-4585-8D55-F9B946F8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7B167-D97C-49E9-B057-6B8A6B8C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12B9B-60F4-46E8-B27A-CC55789A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EB7E12-85BB-493A-942E-3DD2DCD1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EE26A-17B7-4EEE-A66A-D18F7445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3FFAC-DD93-4E2B-9421-7EDFCD32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A5E48-F31D-4EE1-A74C-E4B9E957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CADF5E-350E-40F2-A9D7-F90FF910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BDEC-1621-4FBA-B213-DD202EFF3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03CF-99FE-4B1D-99F2-D8134C388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5165-A7B7-47F0-9CEB-AEA065D2E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B529-D225-446B-800F-9533AEF0E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B506-C8D3-41A4-9EFF-6DEE75C0C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F672-4BF9-4705-9E4B-4AA5D6F96FF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3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4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332D-7CE5-4E36-9768-9BD7EF526DA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0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1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FC73-B728-43F5-B4C9-95526A3D894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2C0F-7D5D-4571-9DF1-4FAF9C325F2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5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9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D66B-A3B0-4C13-B682-A6A52571308E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34E2-2481-4C17-9436-9FD7AD9D03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6233-4252-4614-A898-45AA9BB3C34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8000" y="549360"/>
            <a:ext cx="424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Маларија/Malar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11" descr="eigencyclus"/>
          <p:cNvPicPr/>
          <p:nvPr/>
        </p:nvPicPr>
        <p:blipFill>
          <a:blip r:embed="rId1"/>
          <a:stretch/>
        </p:blipFill>
        <p:spPr>
          <a:xfrm>
            <a:off x="4356000" y="333360"/>
            <a:ext cx="46926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5FB6-7038-482B-9C81-7B7B820642D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387440" y="764280"/>
            <a:ext cx="276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900000" y="1916280"/>
            <a:ext cx="824400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 је најважнија паразитоза људ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распрострањена у 103 земљ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од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које годишње оболева око милијарду људи, а умире више од 2 милио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биј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ема аутохтоних случајева маларије (последњи случај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964. годин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Југославиј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, али се јављају импортовани случаје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настанак и одржавање маларије неопходна су три фактора: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, преносилац и чове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ред тога, неопходни су и други фактори: атмосферски, климатски,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еренски, 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ја је најраспрострањенија у тропским и суптропским крајевим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где има ендемско-епидемијски каракте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99F9-4C91-42BA-AE3B-6C185500882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6" descr="malaria_risk_2003"/>
          <p:cNvPicPr/>
          <p:nvPr/>
        </p:nvPicPr>
        <p:blipFill>
          <a:blip r:embed="rId1"/>
          <a:stretch/>
        </p:blipFill>
        <p:spPr>
          <a:xfrm>
            <a:off x="539640" y="1125360"/>
            <a:ext cx="8280360" cy="5112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858240" y="404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Географска дистрибуција малар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266B-1915-41E5-B9ED-65D746AD038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8" descr="picendem"/>
          <p:cNvPicPr/>
          <p:nvPr/>
        </p:nvPicPr>
        <p:blipFill>
          <a:blip r:embed="rId1"/>
          <a:stretch/>
        </p:blipFill>
        <p:spPr>
          <a:xfrm>
            <a:off x="2916360" y="907920"/>
            <a:ext cx="52099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6503-C302-4B30-9E49-D80D0B5D01F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403280" y="764280"/>
            <a:ext cx="2228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971640" y="1844640"/>
            <a:ext cx="8064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тогенеза болести поклапа се са асексуалним циклусом развој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а у чове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патогенетски механизм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емолиза еритроцит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оксично оштећење различитих тки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слобађање цитокина (T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I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...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итоадхеренција и феномен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“розета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кроваскуларне (капиларне) оклузије у различитим орган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0BA1-B5C4-4E23-BC88-D6917D69569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332000" y="549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692360" y="2060640"/>
            <a:ext cx="60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Инкубација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10-12 дана (8-23 да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примарних маларичних нап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латен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рецид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CB9D-19D2-41B2-8D55-20FE6369042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258920" y="47628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 СТАДИЈУМ ПРИМАРНИХ МАЛАРИЧНИХ НАПА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900000" y="981000"/>
            <a:ext cx="824400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нвазивни стадију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температура до 40ºC, главобоља, малаксалост, болови у мишићима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и напади пролазе кроз три стадијума: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дрхтавиц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хиперпирексиј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презнојавањ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ларичн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и трају 5-10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аларије терцијане и овале маларични напади се понављају сваких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48 часова, код маларије квартане на свака 72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код маларије тропик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ваких 24-48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нелечене маларије терцијане и овале маларични напади се понављ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оком 2-4 недеље, код маларије квартане током 1-2 месеца, а зати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понтано прест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а сваким новим ма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ични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ом анемија прогредира, слезина се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ве виш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већава, болесници се све више исцрпљуј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67E4-9DAD-4450-8708-8578219AB02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900000" y="620640"/>
            <a:ext cx="82440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 клиничко-лабораторијске знаке тешке маларије убрајају с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ока паразитемија (&gt;5% инфицираних еритроци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пирексија (телесна температура &gt; 40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Знаци афекције нервног система (“церебрална маларија”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немија (хематокрит &lt; 20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емећај гликорегулације (хипогликемија &lt; 2,2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понтана крваре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цидоза (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&lt; 7,25; бикарбонати &lt; 15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убрежна инсуфицијенција (креатинин &gt; 265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уреза &lt; 400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билирубинемија (билирубин &gt; 50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ардиоваскуларни колап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фекције плућа и/или плућни ед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лив и/или повраћање (што отежава оралну примену леков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B2C9-E2BC-4902-9489-01DD2012BC3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548360" y="83664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 ПЕРИОД ЛАТЕН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971640" y="2060640"/>
            <a:ext cx="817236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лечених болесника настаје услед уништења еритроцитне фазе 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звоју паразита, а код нелечених због развоја делимичног имуните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овом периоду нема субјективних тегоба, у објективном налаз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оминира спленомегал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иод латенције код маларије тропике је кратак (1-6 недеља), док код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. терцијане и м. овале може да траје више недеља до више месе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3531-2818-4E1E-AF99-637EEAB2EE2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51240" y="83664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I СТАДИЈУМ РЕЦИД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900000" y="1916280"/>
            <a:ext cx="813600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могу бити рани и кас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ни рецидиви могу да се јав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вих облика маларије; касни рецидиви, такође код свих осим м. троп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се клинички презентују типичним маларичним нападима, који с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иодично понављају у одре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ном временском интервалу; једина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злика је што временом маларични напади у рецидиву постају блажи, а период између појединих рецидива све већ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. терцијане, м. квартане и м. овале рецидиви настају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е фазе у развоју паразита, а код м. тропике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државања еритроцитне фаз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159F-ACB2-4951-9C68-C57C63522A5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299960" y="765000"/>
            <a:ext cx="41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мпликације малар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03280" y="2133720"/>
            <a:ext cx="48243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уптура слезине или торз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бачај или превремени порођај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рномокраћна грозн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94C1-7E55-4BB4-B5D1-D8D5BBA388B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042920" y="1989000"/>
            <a:ext cx="763272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Људски род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има три велика непријатеља: грозницу, глад и рат; убедљиво највећа, убедљиво најстрашнија од њих је грозница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William Os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B415-8FB1-4E8D-82AB-4DF430C3B48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403280" y="692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403280" y="2133720"/>
            <a:ext cx="6985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ичк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пидемиолошки подац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аборатор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јск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анализ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брзана S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оцитна, нормохромна анем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алан број леукоцита (ретко леукоцитоз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ромбоцитопен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ко повишена активност трансамин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3372-4B48-416E-AC14-6ABCCCD1A7E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187280" y="836640"/>
            <a:ext cx="7201080" cy="49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Егзактна дијагноз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ентификациј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плазмодијума у крв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размаз или густа кап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Детекција паразитног антигена (флуоресцентна микроскоп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е анализ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C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5" descr="malaria82"/>
          <p:cNvPicPr/>
          <p:nvPr/>
        </p:nvPicPr>
        <p:blipFill>
          <a:blip r:embed="rId1"/>
          <a:stretch/>
        </p:blipFill>
        <p:spPr>
          <a:xfrm>
            <a:off x="6156360" y="1341360"/>
            <a:ext cx="216072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82B3-555B-46EA-B139-198E854041E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193400" y="3333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826920" y="1484280"/>
            <a:ext cx="77774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циљ лечења је прекид акутног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ог напада и превенција рециди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анас располажемо великим бројем антималаричних средстава која делују на различите развојне облике плазмодију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4360" y="3573360"/>
          <a:ext cx="8137440" cy="2857680"/>
        </p:xfrm>
        <a:graphic>
          <a:graphicData uri="http://schemas.openxmlformats.org/drawingml/2006/table">
            <a:tbl>
              <a:tblPr/>
              <a:tblGrid>
                <a:gridCol w="2735280"/>
                <a:gridCol w="54021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ноло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in, kinidin, hlorokin, meflokin, halofantrin, primak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темизи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emizinin, artemetar, artesun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фол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rimetamin, proguanil, hlorproguanil, trimetop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бактериј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iklini, klindamicin, makrolidi, sulfonamid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восинтетисани нафтакинон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ovak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301" name="Picture 99" descr="vol5-38p1-303-00"/>
          <p:cNvPicPr/>
          <p:nvPr/>
        </p:nvPicPr>
        <p:blipFill>
          <a:blip r:embed="rId1"/>
          <a:stretch/>
        </p:blipFill>
        <p:spPr>
          <a:xfrm>
            <a:off x="6300720" y="476280"/>
            <a:ext cx="26431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Хемиопрофилакса малар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Антималаричну профилаксу треба узимати 2 недеље пре одласка, за време боравка и 4 недеље по повратку из ендемичних краје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ЗОНА А (ендемска подручја у којима су плазмодијуми осетлљиви на хлорок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CHLOROQUIN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, таблете 300 mg, једна тбл.недељно, деца: 5 mg/кg телесне мас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Контраиндикације: преосетљивост на хлорокин, епилепсија, псориј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2519-C8BD-4E84-985C-67910ECECBB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ЗОНА Б (ендемска подручја у којима постоји резистенција плазмодијума на хлорокин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CHLOROQUINE + PROGUANI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, 100 mg 200 m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Једна комбинована таблета днев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нтраиндикације: преосетљивост на хлорокин и/или п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  <a:ea typeface="Calibri"/>
              </a:rPr>
              <a:t>рогуа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л, инсуфиијенција јетре и бубрега, епилепсија, псориј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Величина таблете није адекватна за особе са телесном тежином мањом од 50 к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зимати 1 дан пре одласка, све време боравка и 4 недеље након повратка из маларичног подруч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ЗОНА Ц (ендемска подручја у којима постоји висока резистенција plаzmоdiјum fаlcipаrumа на хлорок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MEFLOQUINE (Lariam)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таблете од 250 mg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јеdnа tаblеtа nеdеljn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Деца: 5 mg/кg телесне масе недељ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4B5-C7FB-4C35-84F6-84BEF548739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Контраиндикације: тел.тежина испод 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g, 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трудноћа, преосетљивост на мефлокин, неуропсихијатријски поремећаји (укључујући депресију), епилепсија, конвулзије, терапија мефлокином у претходне 4 недеље, не препоручује се особама чије занимање захтева фину координацију покрета и просторну оријентацију (пилоти, возачи..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Напомена: не узимати мефлокин унутар 12 сати од примене кинина и унутар 3 дана од апликације живих бактеријских вакцина (вакцина против трбушног тифуса и колер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Ампицилин и тетрациклин, уколико се примењују истовремено, могу повећати ниво мефлокина у кр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4471-F66F-45AC-9AA5-7DAE9E69655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E958-C17A-40DC-ABB0-A50D692A5E1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66680" y="857160"/>
            <a:ext cx="752472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ATOVAQUONE + PROGUANIL (Malaron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), 250 mg 100 mg, једна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мбинована таблета днев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нтраиндикације: осетљивост на састојке лека, тешка бубрежна инсифицијенција, телесна тежина мања од 11 к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Истовремена употреба рифампицина, рифабутина, метоклопрамида и тетрациклина, доводи до смањења концентрације маларона у плаз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зимати 1 дан пре поласка, све време боравка и 7 дана након повратка из маларичног подруч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066320" y="928440"/>
            <a:ext cx="75438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DOXYCYCLI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, таблете од 100 mg, једна таблета днев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нтраиндикације: трудноћа и дојење, млађи од 8 година, преосетљивост на тетрациклине, дисфункција јет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Напомена: доксициклин повећава осетљивост коже на сунчеву светлост, па особе са осетљивом кожом треба да користе УВА заштиту и избегавају директно излагање сунчевој светл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зимати 1 дан пре одласка, све време боравка и 4 недеље по повратку из маларичног подруч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 случају да нисте у могућности да набавите препоручене лекове, као и за све друге информације везане за врсту и начин употребе антималаричних лекова, обратите се здравственој служби земље у којој се налази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CDF6-826E-4FF7-B780-4E233FB4179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C9EE-F418-472B-AB29-4D779B82BCB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Picture 5" descr="MalariaMap"/>
          <p:cNvPicPr/>
          <p:nvPr/>
        </p:nvPicPr>
        <p:blipFill>
          <a:blip r:embed="rId1"/>
          <a:stretch/>
        </p:blipFill>
        <p:spPr>
          <a:xfrm>
            <a:off x="1187280" y="765000"/>
            <a:ext cx="7344000" cy="54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2AA7-E1E8-4865-B481-78E8A0F7BF3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79280" y="404640"/>
            <a:ext cx="5329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Амебијаза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Amoeb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Picture 6" descr="Mikroorganismen"/>
          <p:cNvPicPr/>
          <p:nvPr/>
        </p:nvPicPr>
        <p:blipFill>
          <a:blip r:embed="rId1"/>
          <a:stretch/>
        </p:blipFill>
        <p:spPr>
          <a:xfrm>
            <a:off x="5508720" y="1557360"/>
            <a:ext cx="34430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3E19-4CEC-4F01-ADAE-6ACEA8D9262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547640" y="62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ефинициј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187280" y="1989000"/>
            <a:ext cx="7129800" cy="14925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аларија је заразно обољење које изазивају четири врсте паразита из рода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Plasmodium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 а преносе је убодом комарци из рода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Anopheles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258920" y="4221000"/>
            <a:ext cx="734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и се болест карактерише маларичним нападима (периодични напади грознице), анемијом и спленомегалијо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7124-091E-4366-B0BF-5E45107F728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438920" y="77796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332000" y="2565360"/>
            <a:ext cx="7200720" cy="2151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Амебијаза означава инфестацију организма протозоом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Entamoeba histolytica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 која се клинички испољава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широким спектром – од асимптоматске, преко амебног колитиса до инвазивних облика са стварањем апсцеса, пре свега у јет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A4B5-A42F-44FF-B1BE-BFD102DABEF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1403280" y="76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971640" y="1989000"/>
            <a:ext cx="792144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нта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ба хистолyт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ц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 је примарно паразит дебелог цре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јављује се у 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тр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истични обли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прелазна форма (мину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истол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 облик (трофозоит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фозит је патогени облик паразита (продукује протеолитичке ензим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87C6-2551-453C-A281-E0E6646664E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Picture 4" descr="ehistolytica2"/>
          <p:cNvPicPr/>
          <p:nvPr/>
        </p:nvPicPr>
        <p:blipFill>
          <a:blip r:embed="rId1"/>
          <a:stretch/>
        </p:blipFill>
        <p:spPr>
          <a:xfrm>
            <a:off x="1258920" y="1268280"/>
            <a:ext cx="2390760" cy="2467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enta3"/>
          <p:cNvPicPr/>
          <p:nvPr/>
        </p:nvPicPr>
        <p:blipFill>
          <a:blip r:embed="rId2"/>
          <a:stretch/>
        </p:blipFill>
        <p:spPr>
          <a:xfrm>
            <a:off x="4572000" y="1268280"/>
            <a:ext cx="3170160" cy="2400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enta6"/>
          <p:cNvPicPr/>
          <p:nvPr/>
        </p:nvPicPr>
        <p:blipFill>
          <a:blip r:embed="rId3"/>
          <a:stretch/>
        </p:blipFill>
        <p:spPr>
          <a:xfrm>
            <a:off x="2843280" y="3933720"/>
            <a:ext cx="3527280" cy="22687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1181880" y="476280"/>
            <a:ext cx="44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Цистични облик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Entamoebe histolytic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7C61-D81A-4856-91E2-EC3221205CD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Picture 4" descr="E_histol_troph_drawA"/>
          <p:cNvPicPr/>
          <p:nvPr/>
        </p:nvPicPr>
        <p:blipFill>
          <a:blip r:embed="rId1"/>
          <a:srcRect l="8873" t="0" r="11118" b="0"/>
          <a:stretch/>
        </p:blipFill>
        <p:spPr>
          <a:xfrm>
            <a:off x="1042920" y="1700280"/>
            <a:ext cx="2708280" cy="3384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E_histol_troph_C"/>
          <p:cNvPicPr/>
          <p:nvPr/>
        </p:nvPicPr>
        <p:blipFill>
          <a:blip r:embed="rId2"/>
          <a:stretch/>
        </p:blipFill>
        <p:spPr>
          <a:xfrm>
            <a:off x="6732720" y="1700280"/>
            <a:ext cx="2079360" cy="3384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E_histol_troph_D"/>
          <p:cNvPicPr/>
          <p:nvPr/>
        </p:nvPicPr>
        <p:blipFill>
          <a:blip r:embed="rId3"/>
          <a:stretch/>
        </p:blipFill>
        <p:spPr>
          <a:xfrm>
            <a:off x="4067280" y="1700280"/>
            <a:ext cx="2376360" cy="33843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"/>
          <p:cNvSpPr/>
          <p:nvPr/>
        </p:nvSpPr>
        <p:spPr>
          <a:xfrm>
            <a:off x="1404000" y="836640"/>
            <a:ext cx="35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Хистолитички облик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trofozoit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7A88-E2F1-456A-82F8-4CF862ABB12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090800" y="18900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971640" y="692280"/>
            <a:ext cx="727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вету има око 500 милиона особа инфестираних амеб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је космополитско обољење, али је најзаступљенија у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пским и суптропским крајев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Picture 6" descr="amoebiasis1"/>
          <p:cNvPicPr/>
          <p:nvPr/>
        </p:nvPicPr>
        <p:blipFill>
          <a:blip r:embed="rId1"/>
          <a:stretch/>
        </p:blipFill>
        <p:spPr>
          <a:xfrm>
            <a:off x="971640" y="1844640"/>
            <a:ext cx="7345440" cy="36972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7"/>
          <p:cNvSpPr/>
          <p:nvPr/>
        </p:nvSpPr>
        <p:spPr>
          <a:xfrm>
            <a:off x="1042920" y="5661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бијаза је типична фекално-орална инфекциј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вор инфекције су болесник или амебоноша који столицом излучују цисте у спољну средину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овек се инфицира уношењем циста у органозму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љаве руке, вода, хран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B208-6665-4135-9791-69EB318E6A2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187280" y="18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4788000" y="549360"/>
            <a:ext cx="4176720" cy="70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исте након ингестије, пролазе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желудац и танко црево, доспевају у дебело црево где под повољним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словима прелазе у трофозоит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хваљујући својим протеолитичким ферменти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цистеин-протеазе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могу да продру кроз цревну слуз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ицу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у субмукози изазивају некротично-инфламаторне промене, што 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рајњој инстанци резултира стварање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лцерациј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езије код амебијазе обично с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окализоване на цекуму 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сцедентном колону, али су често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хваћени и ректум и сиг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ђе, трофозоити могу да продру и у крвне судове (цревног зида) 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ртним крвотоком у јетру, где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формирају амебне 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цес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Picture 7" descr="image006"/>
          <p:cNvPicPr/>
          <p:nvPr/>
        </p:nvPicPr>
        <p:blipFill>
          <a:blip r:embed="rId1"/>
          <a:stretch/>
        </p:blipFill>
        <p:spPr>
          <a:xfrm>
            <a:off x="250920" y="765000"/>
            <a:ext cx="446724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2F8C-FF65-494D-9F1B-FC20240755E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Picture 4" descr="entah1"/>
          <p:cNvPicPr/>
          <p:nvPr/>
        </p:nvPicPr>
        <p:blipFill>
          <a:blip r:embed="rId1"/>
          <a:stretch/>
        </p:blipFill>
        <p:spPr>
          <a:xfrm>
            <a:off x="1692360" y="1413000"/>
            <a:ext cx="6264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C982-6AA9-4EE9-859B-DAAEDA3E94E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1332000" y="54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линичка сли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258920" y="2060640"/>
            <a:ext cx="70563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нкубација код амебијазе је варијабилн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клинички може да се манифестује у више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симптоматск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ронична 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41A8-42EA-4E6F-8037-A0884FD6C3E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187280" y="6206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042920" y="2060640"/>
            <a:ext cx="7921800" cy="40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тка у нашем поднебљ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Симптом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болови у трбуху, учестале слузаво-крваве столице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"ректални испљувак"), тенезни и лажни позиви на столиц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разлику од бациларне дизентерије, код амебне дизентерије нису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јаче испољени знаци фебрилности, дехридације и интоксикације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1A83-2378-4F25-8A55-83804E0B359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332000" y="5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м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п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ликац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900000" y="1916280"/>
            <a:ext cx="81360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форација са последичним перитонитисо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тено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оми (хроничне грануломатозне пролиферације у цревном зиду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р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ње (најчешћ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но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 (хепатити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, церебрална, перитонеална, ...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00F8-74F5-45AF-9C6C-AE687848E34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58920" y="188280"/>
            <a:ext cx="216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7" descr="P_malariae_schizont4"/>
          <p:cNvPicPr/>
          <p:nvPr/>
        </p:nvPicPr>
        <p:blipFill>
          <a:blip r:embed="rId1"/>
          <a:srcRect l="0" t="14399" r="0" b="0"/>
          <a:stretch/>
        </p:blipFill>
        <p:spPr>
          <a:xfrm>
            <a:off x="5940360" y="1052640"/>
            <a:ext cx="2160720" cy="16542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5747400" y="285264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malaria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kvart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10" descr="Plasmodium_vivax"/>
          <p:cNvPicPr/>
          <p:nvPr/>
        </p:nvPicPr>
        <p:blipFill>
          <a:blip r:embed="rId2"/>
          <a:stretch/>
        </p:blipFill>
        <p:spPr>
          <a:xfrm>
            <a:off x="1763640" y="1052640"/>
            <a:ext cx="2163960" cy="1697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1"/>
          <p:cNvSpPr/>
          <p:nvPr/>
        </p:nvSpPr>
        <p:spPr>
          <a:xfrm>
            <a:off x="1646640" y="2924280"/>
            <a:ext cx="25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vivax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erci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13" descr="ovale"/>
          <p:cNvPicPr/>
          <p:nvPr/>
        </p:nvPicPr>
        <p:blipFill>
          <a:blip r:embed="rId3"/>
          <a:srcRect l="0" t="3055" r="0" b="13823"/>
          <a:stretch/>
        </p:blipFill>
        <p:spPr>
          <a:xfrm>
            <a:off x="1835280" y="3860640"/>
            <a:ext cx="2158920" cy="17272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4"/>
          <p:cNvSpPr/>
          <p:nvPr/>
        </p:nvSpPr>
        <p:spPr>
          <a:xfrm>
            <a:off x="1795320" y="566100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oval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ov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16" descr="winzeler02"/>
          <p:cNvPicPr/>
          <p:nvPr/>
        </p:nvPicPr>
        <p:blipFill>
          <a:blip r:embed="rId4"/>
          <a:srcRect l="18430" t="18250" r="7787" b="0"/>
          <a:stretch/>
        </p:blipFill>
        <p:spPr>
          <a:xfrm>
            <a:off x="5940360" y="3860640"/>
            <a:ext cx="2160720" cy="17290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5753160" y="5661000"/>
            <a:ext cx="26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falciparu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ropi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C987-0F8E-4E09-BAB2-DD89AFE6FC4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187280" y="54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071720" y="1785960"/>
            <a:ext cx="7777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а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икробиолошка испитивањ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иректан микроскопски преглед препарата столиц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лтивисање столице на Leffler-Симићевој подлоз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еролошке реакције (RVK, RIH, ELISA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лекуларна метода (PC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ктоскопски преглед са биопсијом слузнице (ради хистолошког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регледа слузнице на трофозоите!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CE48-9C4E-4F45-A56F-990AE6DB9F6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116000" y="476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094040" y="126756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Tahoma"/>
              </a:rPr>
              <a:t>Подела амебицида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16000" y="2205000"/>
          <a:ext cx="7632720" cy="3095640"/>
        </p:xfrm>
        <a:graphic>
          <a:graphicData uri="http://schemas.openxmlformats.org/drawingml/2006/table">
            <a:tbl>
              <a:tblPr/>
              <a:tblGrid>
                <a:gridCol w="3392640"/>
                <a:gridCol w="424008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уменал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oksanid furoat, klefamid, paromomicin, teklozan, etofamid, dijodohidroksikvinolin, nitazoksanid, t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kli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кивни или системск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etin, dihidroemetin, hlorokin, miltefosin, derivati arsena (karbazon i milib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ша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nitroimidazoli (metronidazol, ornidazol, tinidaz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D4C9-035C-438D-9D18-C0B2012D946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971640" y="1844640"/>
            <a:ext cx="784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симптоматски носиоци (луменални агенс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Јодокин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650 mg таб.) – доза: 3×650 mg/дан, 2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Паромомицин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500 mg/дан, 1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кутни колити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Метро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750 mg/дан, 10 дан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мебни апсцес јет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Један од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Метро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750 mg/дан,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Ти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gr/дан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Ор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gr/дан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Picture 5" descr="images1"/>
          <p:cNvPicPr/>
          <p:nvPr/>
        </p:nvPicPr>
        <p:blipFill>
          <a:blip r:embed="rId1"/>
          <a:stretch/>
        </p:blipFill>
        <p:spPr>
          <a:xfrm>
            <a:off x="6372360" y="189000"/>
            <a:ext cx="2457360" cy="18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B7E3-C3F4-4187-9F10-5A027B60BE9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900000" y="333360"/>
            <a:ext cx="7344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Лај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шманијаза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Leishman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Picture 5" descr="img026"/>
          <p:cNvPicPr/>
          <p:nvPr/>
        </p:nvPicPr>
        <p:blipFill>
          <a:blip r:embed="rId1"/>
          <a:srcRect l="16926" t="27953" r="9845" b="5906"/>
          <a:stretch/>
        </p:blipFill>
        <p:spPr>
          <a:xfrm>
            <a:off x="1979640" y="2565360"/>
            <a:ext cx="568944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3F43-9813-4698-91B2-B2ABB117F52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042920" y="2205000"/>
            <a:ext cx="7850160" cy="28414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је хронично инфективно обољење које изазивају паразити из род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eishmania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 а преносе инсекти из род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hlebotomus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инички се јавља у три облика: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висцер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укоз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бли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40328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ABC8-4D3E-4DAF-9F93-CDA009B04FF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476360" y="1125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042920" y="2276640"/>
            <a:ext cx="799308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е (род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Leishmani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фамилија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Trypanosomatidae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аса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Mastigophor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ло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Protozo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цералну лајшманијазу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donovani, L. infantum i L. shagasi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у лајшманијазу у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стар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tropica, L. infantum, L. major, L. eatiopic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у и мукозалну лајшманијазу у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нов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mexicana, L. braziliensis, L. peruvana, L. guyanensis, L. amazonensi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AD39-0D2F-4E7B-B666-7411DD8670C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187280" y="333360"/>
            <a:ext cx="614052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јшманије се јављају у два морфолошка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romastigot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(leptomonans)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mastigot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221840" y="191628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Promastig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6" descr="img008"/>
          <p:cNvPicPr/>
          <p:nvPr/>
        </p:nvPicPr>
        <p:blipFill>
          <a:blip r:embed="rId1"/>
          <a:srcRect l="19300" t="32677" r="11014" b="7465"/>
          <a:stretch/>
        </p:blipFill>
        <p:spPr>
          <a:xfrm>
            <a:off x="539640" y="2847960"/>
            <a:ext cx="4032360" cy="2597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Ldon_trypomastigotes_Despo"/>
          <p:cNvPicPr/>
          <p:nvPr/>
        </p:nvPicPr>
        <p:blipFill>
          <a:blip r:embed="rId2"/>
          <a:stretch/>
        </p:blipFill>
        <p:spPr>
          <a:xfrm>
            <a:off x="5003640" y="2852640"/>
            <a:ext cx="3816360" cy="25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4CB1-592A-4BB4-945B-71AED5BA3E1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1362600" y="7650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Amastig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Picture 5" descr="Ldono_Zaiman-amastigot"/>
          <p:cNvPicPr/>
          <p:nvPr/>
        </p:nvPicPr>
        <p:blipFill>
          <a:blip r:embed="rId1"/>
          <a:stretch/>
        </p:blipFill>
        <p:spPr>
          <a:xfrm>
            <a:off x="5076720" y="2133720"/>
            <a:ext cx="3832200" cy="2554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Leishmaniasis-tropica,-amastigot"/>
          <p:cNvPicPr/>
          <p:nvPr/>
        </p:nvPicPr>
        <p:blipFill>
          <a:blip r:embed="rId2"/>
          <a:stretch/>
        </p:blipFill>
        <p:spPr>
          <a:xfrm>
            <a:off x="900000" y="2133720"/>
            <a:ext cx="396108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AA07-E3CD-4B59-B804-DFA59C5F249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85920" y="4287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928800" y="1428840"/>
            <a:ext cx="79930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зервоар инфекције су човек и разне врсте домаћих и дивљих животи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најчешће преносе убодом инсекти из род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Phlebotomus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ђе се може пренети трансфузијом крви и сексуалним контак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4" name="Picture 6" descr="Flies"/>
          <p:cNvPicPr/>
          <p:nvPr/>
        </p:nvPicPr>
        <p:blipFill>
          <a:blip r:embed="rId1"/>
          <a:stretch/>
        </p:blipFill>
        <p:spPr>
          <a:xfrm>
            <a:off x="1258920" y="3716280"/>
            <a:ext cx="3240000" cy="2492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leish0705f1"/>
          <p:cNvPicPr/>
          <p:nvPr/>
        </p:nvPicPr>
        <p:blipFill>
          <a:blip r:embed="rId2"/>
          <a:srcRect l="9029" t="9712" r="3994" b="16238"/>
          <a:stretch/>
        </p:blipFill>
        <p:spPr>
          <a:xfrm>
            <a:off x="5003640" y="3716280"/>
            <a:ext cx="32403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CE40-B80D-484A-9B68-7F95F14084A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971640" y="260280"/>
            <a:ext cx="802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се најчешче јавља у тропским земљама Азије, Африке и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Јужне Америке, у Европи углавном око Средоземног м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5" descr="world_map-dobra"/>
          <p:cNvPicPr/>
          <p:nvPr/>
        </p:nvPicPr>
        <p:blipFill>
          <a:blip r:embed="rId1"/>
          <a:stretch/>
        </p:blipFill>
        <p:spPr>
          <a:xfrm>
            <a:off x="1763640" y="148428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EE65-9B4B-4020-8233-C582DCA45EC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4" descr="agambiae"/>
          <p:cNvPicPr/>
          <p:nvPr/>
        </p:nvPicPr>
        <p:blipFill>
          <a:blip r:embed="rId1"/>
          <a:stretch/>
        </p:blipFill>
        <p:spPr>
          <a:xfrm>
            <a:off x="1403280" y="1413000"/>
            <a:ext cx="3024360" cy="1973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malaria3"/>
          <p:cNvPicPr/>
          <p:nvPr/>
        </p:nvPicPr>
        <p:blipFill>
          <a:blip r:embed="rId2"/>
          <a:stretch/>
        </p:blipFill>
        <p:spPr>
          <a:xfrm>
            <a:off x="5508720" y="3933720"/>
            <a:ext cx="3240000" cy="218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thumb-malaria_special"/>
          <p:cNvPicPr/>
          <p:nvPr/>
        </p:nvPicPr>
        <p:blipFill>
          <a:blip r:embed="rId3"/>
          <a:srcRect l="6557" t="0" r="9638" b="0"/>
          <a:stretch/>
        </p:blipFill>
        <p:spPr>
          <a:xfrm>
            <a:off x="1187280" y="3860640"/>
            <a:ext cx="36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osquito2"/>
          <p:cNvPicPr/>
          <p:nvPr/>
        </p:nvPicPr>
        <p:blipFill>
          <a:blip r:embed="rId4"/>
          <a:stretch/>
        </p:blipFill>
        <p:spPr>
          <a:xfrm>
            <a:off x="5651640" y="1341360"/>
            <a:ext cx="2736720" cy="20210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0"/>
          <p:cNvSpPr/>
          <p:nvPr/>
        </p:nvSpPr>
        <p:spPr>
          <a:xfrm>
            <a:off x="1638720" y="54936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Anophe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6D81-B020-498B-8B4A-326D0C49CD8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1042920" y="54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042920" y="1125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lebotomine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pro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a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(лимфне жлезде, слезина, јетра, костна срж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6" descr="leish0705f2"/>
          <p:cNvPicPr/>
          <p:nvPr/>
        </p:nvPicPr>
        <p:blipFill>
          <a:blip r:embed="rId1"/>
          <a:srcRect l="4641" t="12567" r="4646" b="11332"/>
          <a:stretch/>
        </p:blipFill>
        <p:spPr>
          <a:xfrm>
            <a:off x="1547640" y="1916280"/>
            <a:ext cx="676944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EA86-8102-4411-8601-E43263D2B22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1162440" y="6206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692360" y="2205000"/>
            <a:ext cx="5759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е испољава у три клиничка облик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висцерални,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кож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мукозал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0F86-BDE9-4F4C-8239-65DF56EA208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116000" y="981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Висцерална лајшманијаза (Kala Azar)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116000" y="2133720"/>
            <a:ext cx="777708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варира од 3 дана до 8 месец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постепено: повишена температура, знојење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убитак апетита, малаксалост, мршављењ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бледило коже и слузница, лимафаденопатија, спленомегалија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епатомегалија, интерстицијска пнеумонија, хеморагијски синдр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елечена висцерална лајшманијаза се завршава смрћ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06BA-FDE5-47B8-8B3A-642A81C7E87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img026"/>
          <p:cNvPicPr/>
          <p:nvPr/>
        </p:nvPicPr>
        <p:blipFill>
          <a:blip r:embed="rId1"/>
          <a:srcRect l="16926" t="27953" r="11014" b="5906"/>
          <a:stretch/>
        </p:blipFill>
        <p:spPr>
          <a:xfrm>
            <a:off x="539640" y="1773360"/>
            <a:ext cx="5688000" cy="3916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KalaAzar_Zaiman"/>
          <p:cNvPicPr/>
          <p:nvPr/>
        </p:nvPicPr>
        <p:blipFill>
          <a:blip r:embed="rId2"/>
          <a:srcRect l="17670" t="0" r="22157" b="0"/>
          <a:stretch/>
        </p:blipFill>
        <p:spPr>
          <a:xfrm>
            <a:off x="6443640" y="333360"/>
            <a:ext cx="2449440" cy="61088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1470240" y="83664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Kala Az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A2FB-EFAD-4BE8-A514-5590C13E49E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187280" y="9079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042920" y="1773360"/>
            <a:ext cx="7848720" cy="36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кубација варира од 2 недеље до неколико месец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мене се јављају на откривеним деловима тела: на месту убода се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ајпре јавља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акул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а брзо прелази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апул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 ова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откожни чворић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и може да се одржава месецима и да спонтано ишчезне или егзулцерише 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езболна улцерациј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жне промене прати регионални лимафаденити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6996-F6F7-452F-BAE7-748AC4CAF5F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4" descr="1455_f1"/>
          <p:cNvPicPr/>
          <p:nvPr/>
        </p:nvPicPr>
        <p:blipFill>
          <a:blip r:embed="rId1"/>
          <a:stretch/>
        </p:blipFill>
        <p:spPr>
          <a:xfrm>
            <a:off x="1332000" y="1004760"/>
            <a:ext cx="3311280" cy="2543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leishmaniasis"/>
          <p:cNvPicPr/>
          <p:nvPr/>
        </p:nvPicPr>
        <p:blipFill>
          <a:blip r:embed="rId2"/>
          <a:stretch/>
        </p:blipFill>
        <p:spPr>
          <a:xfrm>
            <a:off x="5076720" y="1039680"/>
            <a:ext cx="273528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hand"/>
          <p:cNvPicPr/>
          <p:nvPr/>
        </p:nvPicPr>
        <p:blipFill>
          <a:blip r:embed="rId3"/>
          <a:stretch/>
        </p:blipFill>
        <p:spPr>
          <a:xfrm>
            <a:off x="1692360" y="3860640"/>
            <a:ext cx="2592360" cy="2349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img041"/>
          <p:cNvPicPr/>
          <p:nvPr/>
        </p:nvPicPr>
        <p:blipFill>
          <a:blip r:embed="rId4"/>
          <a:srcRect l="15756" t="26394" r="7477" b="5906"/>
          <a:stretch/>
        </p:blipFill>
        <p:spPr>
          <a:xfrm>
            <a:off x="4788000" y="3860640"/>
            <a:ext cx="3600360" cy="23814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8"/>
          <p:cNvSpPr/>
          <p:nvPr/>
        </p:nvSpPr>
        <p:spPr>
          <a:xfrm>
            <a:off x="1502280" y="47628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370F-6AF0-4B68-9ED2-4D4E7AA5246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411200" y="4762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Дифузна кута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5" descr="difuzna kutana"/>
          <p:cNvPicPr/>
          <p:nvPr/>
        </p:nvPicPr>
        <p:blipFill>
          <a:blip r:embed="rId1"/>
          <a:srcRect l="18101" t="26165" r="13388" b="9031"/>
          <a:stretch/>
        </p:blipFill>
        <p:spPr>
          <a:xfrm>
            <a:off x="1403280" y="1268280"/>
            <a:ext cx="6553440" cy="46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C1C8-846F-4AA3-A5D2-357C586ECF7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258920" y="333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Мукозална лајшманиј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907920"/>
            <a:ext cx="79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опсежним, деструктивним променама на слузници носа, уста, фаринкса или ларинкса (локални деформитети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Picture 6" descr="lei20"/>
          <p:cNvPicPr/>
          <p:nvPr/>
        </p:nvPicPr>
        <p:blipFill>
          <a:blip r:embed="rId1"/>
          <a:stretch/>
        </p:blipFill>
        <p:spPr>
          <a:xfrm>
            <a:off x="4427640" y="1916280"/>
            <a:ext cx="3240000" cy="2187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abb05_s"/>
          <p:cNvPicPr/>
          <p:nvPr/>
        </p:nvPicPr>
        <p:blipFill>
          <a:blip r:embed="rId2"/>
          <a:stretch/>
        </p:blipFill>
        <p:spPr>
          <a:xfrm>
            <a:off x="1187280" y="2276640"/>
            <a:ext cx="2651400" cy="4032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img043"/>
          <p:cNvPicPr/>
          <p:nvPr/>
        </p:nvPicPr>
        <p:blipFill>
          <a:blip r:embed="rId3"/>
          <a:srcRect l="16926" t="27953" r="6301" b="5906"/>
          <a:stretch/>
        </p:blipFill>
        <p:spPr>
          <a:xfrm>
            <a:off x="4427640" y="4365720"/>
            <a:ext cx="324000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006D-80AA-480C-A1FF-7F3DF0B07DE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1688040" y="7639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692360" y="2133720"/>
            <a:ext cx="47512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јагноза се поставља на основ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Клиничке сл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Епидемиолошких података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Лабораторијских анали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0808-9AB1-474C-BF90-FF142F4B489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434600" y="534240"/>
            <a:ext cx="40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Лабораторијска дијагно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1343520" y="14122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Хематолош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1213920" y="3789720"/>
            <a:ext cx="4446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оалбум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ергамаглобул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вишена активност трансаминаз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1228320" y="2059920"/>
            <a:ext cx="70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анцитопенија (анемија, леукопенија, тромбоцитопениј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1332360" y="328392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иохемијс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145C-C181-45C2-ABC3-8C24D7D5E7F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476360" y="98100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84360" y="2133720"/>
            <a:ext cx="47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  Асексуални циклус ("шизогонија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ре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I Сексуални циклус ("спорогонија"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7" descr="cyclustext"/>
          <p:cNvPicPr/>
          <p:nvPr/>
        </p:nvPicPr>
        <p:blipFill>
          <a:blip r:embed="rId1"/>
          <a:stretch/>
        </p:blipFill>
        <p:spPr>
          <a:xfrm>
            <a:off x="5508720" y="1557360"/>
            <a:ext cx="34718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2DAD-3DC3-4F69-ADE2-1EDED50424F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332000" y="119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Етиолошк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187280" y="2060640"/>
            <a:ext cx="7488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дентификација узрочника у ткиву, најчешће костној сржи (микроскопски преглед пункта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золација узрочника из крви, костне сржи и других ткива (култивисање н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NNN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подлогам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специфичних антитела на лајшманиј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IF, ELISA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паразитн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DNK (PCR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661D-EFC6-4E1B-8A1A-F92F85A1561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4" descr="amastigot - koza"/>
          <p:cNvPicPr/>
          <p:nvPr/>
        </p:nvPicPr>
        <p:blipFill>
          <a:blip r:embed="rId1"/>
          <a:srcRect l="16926" t="29520" r="19300" b="5906"/>
          <a:stretch/>
        </p:blipFill>
        <p:spPr>
          <a:xfrm>
            <a:off x="1763640" y="1700280"/>
            <a:ext cx="5400720" cy="41022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1589760" y="90792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Амастигот у биоптату кож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6FA2-657A-4471-AB1C-D945AEBB8D9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1695240" y="50364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163880" y="1412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Антипаразитар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332000" y="1916280"/>
            <a:ext cx="3095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нтимонски препара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оматични диамиди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мфотерицин 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1000440" y="364428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Симптоматско-супституцио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1258920" y="4221000"/>
            <a:ext cx="678816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анемије (трансфузије крви, гвожђе, витамин Б12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хипопротеинемије (20% албумини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исококалоријска исхра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2" name="Picture 9" descr="ico_pills"/>
          <p:cNvPicPr/>
          <p:nvPr/>
        </p:nvPicPr>
        <p:blipFill>
          <a:blip r:embed="rId1"/>
          <a:stretch/>
        </p:blipFill>
        <p:spPr>
          <a:xfrm>
            <a:off x="5867280" y="620640"/>
            <a:ext cx="241776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CD43-20A6-4C1A-BC70-52CC6F0EDFE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861840" y="1844640"/>
            <a:ext cx="828216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ИНФЕКЦИЈЕ И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ЗАЗВАНЕ РИКЕЦИЈАМА (RIKECIOZ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D82B-9A4E-4246-9441-C3190785FA0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142280" y="126756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ПЕГАВИ ТИФУС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(TYPHUS EXANTHEMATICU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1187280" y="2133720"/>
            <a:ext cx="76327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егави тифус је акутна, неконтагиозна, инфективна болест која се клинички карактерише општим симптомима инфекције, симптомима енцефалити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тифозним стањем) и макулозном осп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 болести је </a:t>
            </a:r>
            <a:r>
              <a:rPr b="0" i="1" lang="sr-Latn-CS" sz="1800" spc="-1" strike="noStrike">
                <a:solidFill>
                  <a:srgbClr val="ffff99"/>
                </a:solidFill>
                <a:latin typeface="Tahoma"/>
              </a:rPr>
              <a:t>Rickettsia prowazeki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ја се у сасушеном измету ваши може одржати више месе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99B7-5740-4C4D-BD6C-87DF230BAC6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1042920" y="765000"/>
            <a:ext cx="7921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вор инфекције је болесник који болује од пегавца или Брил-Цинсерове болести (заразан је последња 2 до 3 дана инкубације и све време трајања фебрилности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 оболелог на здравог човека болест преноси бала вашк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(Pediculus humanis corporis)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која се зарази сишући крв болес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3" descr="Piojo_de_la_ropa_Pediculus_humanos_corporis"/>
          <p:cNvPicPr/>
          <p:nvPr/>
        </p:nvPicPr>
        <p:blipFill>
          <a:blip r:embed="rId1"/>
          <a:stretch/>
        </p:blipFill>
        <p:spPr>
          <a:xfrm>
            <a:off x="1116000" y="3357720"/>
            <a:ext cx="3527280" cy="320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foto_025"/>
          <p:cNvPicPr/>
          <p:nvPr/>
        </p:nvPicPr>
        <p:blipFill>
          <a:blip r:embed="rId2"/>
          <a:stretch/>
        </p:blipFill>
        <p:spPr>
          <a:xfrm>
            <a:off x="5508720" y="3357720"/>
            <a:ext cx="213192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BFE3-56BB-4FA5-9DF2-F067C5D8937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1258920" y="1773360"/>
            <a:ext cx="72723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рикеција се настањује и размножава у епителним ћелијама црева, одакле столицом доспева у спољну средин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човек се инфицира утрљавањем измета у кожу (чешањем), ређе утрљавањем у коњунктив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е јавља епидемично, у животним ситуацијама лоших санитарних услова када је вашљив велики број људ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75D5-8A8E-4774-B287-833808F96EB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Text Box 2"/>
          <p:cNvSpPr/>
          <p:nvPr/>
        </p:nvSpPr>
        <p:spPr>
          <a:xfrm>
            <a:off x="1042920" y="1268280"/>
            <a:ext cx="79218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икеције посебан афинитет показују к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ендотелним ћелија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малих крвних судова (артериоле, капилари, венуле), где се размножавају, разарају ендотелне ћелије и доспевају у крвоток (рикецијем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ком рикецијемије настаје дисеминација узрочника до различитих ткива и органа у којима изазивају васкулитис; промене су најизраженије у кожи, мозгу, попречно-пругастој мускулатури, тестисима, срцу и бубрез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ко инфицираних крвних судова ствара се запаљенски инфилтрат (гранулом) састваљен од лимфоцита и моноцита (артериолитис грануломатоса, Френкелови чворићи); ови грануломи сужавају лумен малих крвних судова, што доводи до успоравања крвотока и појаве тромбо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2D8A-ADF2-4152-A128-28247EED293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258920" y="1125360"/>
            <a:ext cx="72007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износи 1 до 2 недеље (просечно 12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отиче кроз три стадијум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вазивни стадију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гзантематични (тифозни стадијум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конвалесцентни стадиј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F605-151A-4A2F-93F3-965579196AB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"/>
          <p:cNvSpPr/>
          <p:nvPr/>
        </p:nvSpPr>
        <p:spPr>
          <a:xfrm>
            <a:off x="1116000" y="1268280"/>
            <a:ext cx="777708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. Инвазив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нагло са оптим симптомима инфекције: високом температуром, дрхтавицом, главобољом, мијалгијама и артралгија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лице је црвено и подбуло (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aput rubrum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, коњунктивална ињекција, језик је сув, обложен прљавосивим наслагама; на плућима бронхитични шушње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5 до 7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E35C-12FD-4EA0-93BB-C97C5C72705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7" descr="malariacycleBig"/>
          <p:cNvPicPr/>
          <p:nvPr/>
        </p:nvPicPr>
        <p:blipFill>
          <a:blip r:embed="rId1"/>
          <a:stretch/>
        </p:blipFill>
        <p:spPr>
          <a:xfrm>
            <a:off x="826920" y="836640"/>
            <a:ext cx="7921800" cy="52848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918360" y="26028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0BF0-398E-4DB2-B694-34392D3B914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1116000" y="1268280"/>
            <a:ext cx="7850160" cy="54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б. Егзантематични стадијум (тифозни стадију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појавом оспе, која избија у једном маху и која је најизраженија на флексорним странама руку и бочним деловима тела (оспа је макулозна, некада делимично петехијална, тј. никада све макуле не прелазе у петехиј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ком овог стадијума јављају се симптоми од стране CNS-а: пацијент је узнемирен, дезоријентисан, често агресиван са халуцинацијама или је миран, апатичан, у прострацији и ступору (тифозно стањ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гу бити присутни и знаци пнеумоније, миокардитиса, нефритис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пленомегалија је најизраженија почетком овог стадијума, касније неста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7 до 8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DFA5-050C-4B6A-B68C-884A020F80A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187280" y="1197000"/>
            <a:ext cx="76327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Реконвалесцент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лучају оздрављења опоравак је брз и без послед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омплик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стају услед тромбозе крвних судова (у било ком органу и на акрима у смислу гангрене) и бактеријске суперинфекц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79F0-B1A7-4015-BF0E-2A98BB8E103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1116000" y="1197000"/>
            <a:ext cx="6480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 (вашљивост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бораторијске анализе (умерена леукоцитоз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DFFC-61B0-4002-954D-8F6CF8312D0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1042920" y="1197000"/>
            <a:ext cx="763272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Серолош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Weil-Felix-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 реакција аглутинације (proteus OX 19) – реакција је позитивна крајем прве и почетком друге недеље болести: дијагностички је значајан титар већи од 1:160, али је важнији четвороструки пораст титра антитела у два узорка серу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реакција везивања комплемент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RVK) са специфичним рикецијским антигеном, касније постаје позитивна, око 10 дана болести, а за дијагностичку динамику титра треба чекати бар три недељ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ндиректна имунофлуоресценциј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IIF) и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муноензимски тест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ELISA) за откривање антитела на рикецију у IgM и IgG кла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9B49-264D-4567-B936-23A34EDDE53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58920" y="1052640"/>
            <a:ext cx="7489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етрациклини (доксициклин 2x100mg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лорамфеникол (30mg/kg у 4 једнаке доз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имптоматска терап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рофила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рба против вашљивости (депедикулац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стоји вакцина од атенуиране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R. prowazek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996B-BE38-4EBE-B2BC-863A5F60B77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1455120" y="89280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BRIL – ZINSSEROVA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БОЛ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1258920" y="2205000"/>
            <a:ext cx="7489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рил-Цинсерова болест је касни рецидив пегавца, а јавља се више година након прележане боле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BB5C-41FB-4743-8AE3-3313AB697C2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1187280" y="1052640"/>
            <a:ext cx="75614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 и 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се јавља спорадично у свим крајевима света у којима је накада било пегавца или га још увек 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ник с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rill-Zinsser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во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болешћу може бити извор инфекције пегавца уколико истовремено постоји вашљиво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B4FA-CB8C-431B-81F8-6788806AA73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1116000" y="1197000"/>
            <a:ext cx="763272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кон прележаног пегавца, рикеције се задржавају у организму у латентном стању, а могу се активирати уколико ослабе имунске снаге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отиче као лакши облик пегавца (траје 7-11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127B-7CEB-4AD5-BCD3-CC186ED85BE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1187280" y="1197000"/>
            <a:ext cx="75614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ст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VK (рано постаје позитивна - око 5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rill-Zinsser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болест се лечи као и пегава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4226-21BD-451E-80E2-632CD1DAF2E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3132000" y="278136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Хвала на па</a:t>
            </a:r>
            <a:r>
              <a:rPr b="0" i="1" lang="sr-Latn-CS" sz="3600" spc="-1" strike="noStrike">
                <a:solidFill>
                  <a:srgbClr val="ffff00"/>
                </a:solidFill>
                <a:latin typeface="Comic Sans MS"/>
              </a:rPr>
              <a:t>жњ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04F7-B6B8-428A-B7D0-7F40BCD7E4F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F0000-012-001"/>
          <p:cNvPicPr/>
          <p:nvPr/>
        </p:nvPicPr>
        <p:blipFill>
          <a:blip r:embed="rId1"/>
          <a:srcRect l="0" t="0" r="0" b="6943"/>
          <a:stretch/>
        </p:blipFill>
        <p:spPr>
          <a:xfrm>
            <a:off x="2700360" y="189000"/>
            <a:ext cx="6264360" cy="61545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653760" y="62064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</a:t>
            </a:r>
            <a:br>
              <a:rPr sz="1800"/>
            </a:b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3B18-A2EB-44A4-A7DB-6742FF45C2B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5" descr="oocysts"/>
          <p:cNvPicPr/>
          <p:nvPr/>
        </p:nvPicPr>
        <p:blipFill>
          <a:blip r:embed="rId1"/>
          <a:srcRect l="0" t="6140" r="0" b="39916"/>
          <a:stretch/>
        </p:blipFill>
        <p:spPr>
          <a:xfrm>
            <a:off x="2627280" y="359100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oocysts2"/>
          <p:cNvPicPr/>
          <p:nvPr/>
        </p:nvPicPr>
        <p:blipFill>
          <a:blip r:embed="rId2"/>
          <a:srcRect l="0" t="0" r="0" b="36183"/>
          <a:stretch/>
        </p:blipFill>
        <p:spPr>
          <a:xfrm>
            <a:off x="3348000" y="1052640"/>
            <a:ext cx="5400720" cy="2220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oocysts3"/>
          <p:cNvPicPr/>
          <p:nvPr/>
        </p:nvPicPr>
        <p:blipFill>
          <a:blip r:embed="rId3"/>
          <a:srcRect l="0" t="0" r="0" b="21856"/>
          <a:stretch/>
        </p:blipFill>
        <p:spPr>
          <a:xfrm>
            <a:off x="684360" y="1052640"/>
            <a:ext cx="2303280" cy="2220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1009440" y="4046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Ooc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Ivana Rakovic</cp:lastModifiedBy>
  <dcterms:modified xsi:type="dcterms:W3CDTF">2024-09-05T22:24:14Z</dcterms:modified>
  <cp:revision>119</cp:revision>
  <dc:subject/>
  <dc:title>Slide 1</dc:title>
</cp:coreProperties>
</file>